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png" ContentType="image/png"/>
  <Override PartName="/ppt/media/image19.jpeg" ContentType="image/jpeg"/>
  <Override PartName="/ppt/media/image7.jpeg" ContentType="image/jpeg"/>
  <Override PartName="/ppt/media/image13.png" ContentType="image/png"/>
  <Override PartName="/ppt/media/image8.png" ContentType="image/png"/>
  <Override PartName="/ppt/media/image6.jpeg" ContentType="image/jpeg"/>
  <Override PartName="/ppt/media/image10.jpeg" ContentType="image/jpeg"/>
  <Override PartName="/ppt/media/image23.png" ContentType="image/png"/>
  <Override PartName="/ppt/media/image1.jpeg" ContentType="image/jpe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634839-81B1-4BD4-A49A-2818BD189B18}"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82A2FA-8360-4ECA-9ACE-898E38AB8D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AA3FF2-A9A4-4CB4-AD23-5330323FEDF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n the news has gone digit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interesting aspect of having ordinary citizens carry along cell phone cameras, digital cameras, and digital camcorders is that not only do they empower us personally but they also are giving rise to what are called ‘citizen journalists.’ The basic idea is that now, if anything interesting is happening anywhere in the world, most likely someone is taking a picture or video of i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NN has its new iReport service, where it aggregates news-oriented video from individuals across the globe. The South Korean online newspaper, OhMyNews, has as its motto ‘Every Citizen Is a Reporter.’ It gets several million hits a day and over 80% of its content is from ordinary citizens like you and m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ECDFCF-8E5E-4F76-9CFD-C6605EE19D7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4% annual growth in Africa;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microfinancegateway.org/uploaded_files/woman%20in%20crowd%20with%20phone%202.jp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wikinvest.com/concept/Mobile_Phone_Adoption_in_Developing_Countries</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524E35-FD54-4971-A90B-847E2F51324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the interesting effect of everything going digital is that everyone now has a voi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ogs, wikis, podcasts, social networking sites, online photo, online video, social bookmarking, microblogging. The tools are all there for anyone who wants to use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8720F-FDB1-4B02-8316-C0D2E2FAABA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F6CBA2-F5A7-4AE5-9F60-D1A3B56FC22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18F093-944A-4513-9046-5DCD27B653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15" name="PlaceHolder 1"/>
          <p:cNvSpPr>
            <a:spLocks noGrp="1"/>
          </p:cNvSpPr>
          <p:nvPr>
            <p:ph type="sldImg"/>
          </p:nvPr>
        </p:nvSpPr>
        <p:spPr>
          <a:xfrm>
            <a:off x="1144440" y="685800"/>
            <a:ext cx="457056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nd there’s YouTube, now the #3 place on the Web. About 1 in 6 Internet users has visited YouTube in the past 24 hours.</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Just ask Judson Laipply, a previously obscure comedian from Cleveland, what it’s done to his career to have his Evolution of Dance routine viewed by over 80 million people. Most major television and film production channels, faced with declining viewership, are trying to establish a YouTube presenc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ands up – how many of you have watched a video on YouTube? uploaded a video to YouTub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We now live in a world where a comedian from Cleveland can be viewed by over 50 million peopl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ahaha 17 million peopl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hey 15 million peopl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ver watched?</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ver uploaded?</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YouTube is now the #2 most-visited site on the Internet – ahead of Googl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Not bad for a company that barely existed 2 years ago</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s the Alexa trend graph shows, the percentage of global Internet users who visited YouTube yesterday is nearly 15%. This means that about 1 in 7 Internet users across the globe visited YouTube in the past 24 hours.</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only sites more popular than YouTube are Yahoo, MSN.com, and Googl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then there’s Facebook and MySpace, which are the #5 and #7 places on the Web, respectively. Why? Because they do one thing extremely well – they allow us to connect with each other in ways that we find meaningful and engaging.</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s up – how many of you belong to MySpace, Facebook, or some other social networking si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lexa.com/site/ds/top_sites?ts_mode=global&amp;lang=n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CFAF67-C247-466F-A7DF-449D0AB95CA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1A2F4-2165-4CDF-BF2A-393E0C60073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78DDAB-FD03-4A4A-BB58-774A9606DA5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CC3E96-B4E0-4195-9F90-20647184185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27" name="PlaceHolder 1"/>
          <p:cNvSpPr>
            <a:spLocks noGrp="1"/>
          </p:cNvSpPr>
          <p:nvPr>
            <p:ph type="sldImg"/>
          </p:nvPr>
        </p:nvSpPr>
        <p:spPr>
          <a:xfrm>
            <a:off x="1144440" y="685800"/>
            <a:ext cx="457056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ultimately it is about empowerment. The reason these technologies are going like wildfire is because they allow people to be more efficient, to be more effective, to do things they want to do, and to do things they never could befor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llabor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ivit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intermedi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a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tting the power in the</a:t>
            </a:r>
            <a:br>
              <a:rPr sz="1200"/>
            </a:br>
            <a:r>
              <a:rPr b="0" lang="en-US" sz="1200" spc="-1" strike="noStrike">
                <a:solidFill>
                  <a:srgbClr val="000000"/>
                </a:solidFill>
                <a:latin typeface="Calibri"/>
              </a:rPr>
              <a:t>hands of the us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hnology allows us to communicate and collaborate with folks halfway across the globe just about as easily as we can the folks across tow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st like the printing press ushered in a new era where the general population could afford to be literate, to read, we are seeing similar transformations toda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longer need to be a publishing company to publish a boo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ord studio to create a hit song or albu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vie studio to create a hit movie or music video</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Digital cameras, camcorders, software – a few hundred dollars, an Internet connection, and an idea and you’re all se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intermediation – tools are there that allow us to bypass the “middle man” – used to have to rely on publishers, record companies, movie studios, etc. to reach our audience – now we can reach them directly and they can find us through search engines, video hosting sites, tags, et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 only can we reach them by bypassing traditional entities – we can reach them in the thousands, hundreds of thousands, millions</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hift Happens</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72EC4C-E4CC-4C42-9BD3-7096839EF29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hallenge, of course, is that much of this world is invisible to older adults and educators (in the bubbl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y? b/c didn’t grow up with 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e first time in history, kids know more than adults about something that’s importa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this is scary to adult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sley Fry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http://www.speedofcreativity.org/2006/10/21/beyond-the-digital-native-immigrant-dichotom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567F6E-3E80-44A8-8C34-CB847F29634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the interesting effect of everything going digital is that everyone now has a voi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ogs, wikis, podcasts, social networking sites, online photo, online video, social bookmarking, microblogging,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of course there’s YouTube, now the #2 place on the Web. About 1 in 6 Internet users has visited YouTube in the past 24 hou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ust ask Judson Laipply, a previously obscure comedian from Cleveland, what it’s done to his career to have his Evolution of Dance routine viewed by over 80 million people. Most major television and film production channels, faced with declining viewership, are trying to establish a YouTube pres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s up – how many of you have watched a video on YouTube? uploaded a video to YouTube?</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94AC07-CF6E-4E52-B1CB-B3CA95E1C0F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logs, wikis, podcasts, social networking sites, online photo, online video, social bookmarking, microblogging. The tools are all there for anyone who wants to use the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Shirky notes, the web has become a participatory space, and there’s no going back.</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does it mean for your ability to be effective 21st century leaders when so few of you are using or are even familiar with the new social tools that are revolutionizing our personal lives?</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714292-4720-45F0-88A2-1497842E4B4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82553-2DB2-4E30-A4DD-22B1D6A970E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A8CDB-1D53-4F5D-9C50-B6FD8DC92CE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alking went digit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the personal level, we now carry around portable little computers (also known as cell phones) that not only let us talk to anyone in the world but also can send text messages, photographs, and videos. They also can hold our calendar, contacts, and music that we like to listen to. All in our pocke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s up – how many of you own a cell ph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flickr.com/photos/davyrocket/8233998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many of you have heard of a service called Jott that lets you can send yourself an e-mail reminder simply by calling and talking into the phon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sic went digit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of us have iPods or other portable music devices that let us carry around a lifetime’s worth of music. And, again, they fit in our pocket or purs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in addition to being both wonderfully useful and kinda cool, these little devices also are making us completely rethink a number of issues related to intellectual property and copyrigh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s up – how many of you own an iPod or other kind of portable music play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flickr.com/photos/zengame/42914294/sizes/l/</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C29777-F350-4D3D-BFF0-D8A30BC348B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ps went digit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a few hundred dollars, we can buy a portable GPS unit and never have to get lost agai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s up – how many of you own a GPS uni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flickr.com/photos/soumit/450204342/in/photostream/</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flickr.com/photos/mdumlao98/976279763/</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otos went digit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orld of photography has been completely upended in the past couple of decades, as digital cameras infiltrate both the personal and professional real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nds up – how many of you own a digital camera? Those of you who do know the affordances they lend us over regular film photograph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flickr.com/photos/parl/898227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flickr.com/photos/dhammza/14086849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flickr.com/photos/purprin/2070805989/</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E4459-9BBD-4FB7-8E4D-4CA8C6C2C04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vies went digit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ke the digital camera, the digital camcorder also is replacing earlier, often bulky versions, allowing individuals to capture video wherever they might b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flickr.com/photos/oldonliner/1571194587/</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flickr.com/photos/checiap/164147687/</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6A59F-805E-4CCD-B627-F26E8BD72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2C92D-D532-4AA6-87E5-32A3E9E87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5E95D8-DF9B-4C6E-9EC2-EA6E66685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566171-D8E8-4A49-8A3F-21883DEDA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4CA43-3BBD-418C-BD0A-28B7D09F9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04A8A-3FD8-49E1-AC40-5D9DB5AE7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B3E4F-576C-4576-B4B7-65B4CC661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F38F5-19A8-40A9-9EB0-77AAC2A1A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E8936-3A55-4FA3-A8C3-9711AD1BC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38C4E-FDB5-4DA0-8FFD-7A9D9632C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6546D-BC17-474A-95D5-0B9B57FDF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D199A-3A15-4AD8-9D7A-898F459102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C4B74D-98CD-40F1-8E60-43954F99264C}"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movingforward.wikispaces.com/videos" TargetMode="External"/><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typepad.com/t/app/weblog/post?blog_id=1361226"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flickr.com/photos/wfryer/275042551/"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837720"/>
            <a:ext cx="7772400" cy="173700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cc66"/>
                </a:solidFill>
                <a:latin typeface="Arial Black"/>
              </a:rPr>
              <a:t>ACT 1</a:t>
            </a:r>
            <a:endParaRPr b="0" lang="en-US" sz="15000" spc="-1" strike="noStrike">
              <a:solidFill>
                <a:srgbClr val="ffcc66"/>
              </a:solidFill>
              <a:latin typeface="Arial"/>
            </a:endParaRPr>
          </a:p>
        </p:txBody>
      </p:sp>
      <p:sp>
        <p:nvSpPr>
          <p:cNvPr id="49" name="PlaceHolder 2"/>
          <p:cNvSpPr>
            <a:spLocks noGrp="1"/>
          </p:cNvSpPr>
          <p:nvPr>
            <p:ph type="subTitle"/>
          </p:nvPr>
        </p:nvSpPr>
        <p:spPr>
          <a:xfrm>
            <a:off x="-360" y="3429000"/>
            <a:ext cx="8458200" cy="1752480"/>
          </a:xfrm>
          <a:prstGeom prst="rect">
            <a:avLst/>
          </a:prstGeom>
          <a:noFill/>
          <a:ln w="0">
            <a:noFill/>
          </a:ln>
        </p:spPr>
        <p:txBody>
          <a:bodyPr anchor="t">
            <a:noAutofit/>
          </a:bodyPr>
          <a:p>
            <a:pPr indent="0" algn="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98d3"/>
                </a:solidFill>
                <a:latin typeface="Arial Black"/>
              </a:rPr>
              <a:t>Our tools</a:t>
            </a:r>
            <a:br>
              <a:rPr sz="6000"/>
            </a:br>
            <a:r>
              <a:rPr b="0" lang="en-US" sz="6000" spc="-1" strike="noStrike">
                <a:solidFill>
                  <a:srgbClr val="1f98d3"/>
                </a:solidFill>
                <a:latin typeface="Arial Black"/>
              </a:rPr>
              <a:t>have </a:t>
            </a:r>
            <a:br>
              <a:rPr sz="6000"/>
            </a:br>
            <a:r>
              <a:rPr b="0" lang="en-US" sz="6000" spc="-1" strike="noStrike">
                <a:solidFill>
                  <a:srgbClr val="1f98d3"/>
                </a:solidFill>
                <a:latin typeface="Arial Black"/>
              </a:rPr>
              <a:t>change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63" name="Content Placeholder 3" descr="CNN iReport.png"/>
          <p:cNvPicPr/>
          <p:nvPr/>
        </p:nvPicPr>
        <p:blipFill>
          <a:blip r:embed="rId1"/>
          <a:stretch/>
        </p:blipFill>
        <p:spPr>
          <a:xfrm>
            <a:off x="0" y="0"/>
            <a:ext cx="1407168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Picture 5" descr="cell_phone_africa.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Picture 5" descr="2961226120_e865ac65bf_o.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66" name="Picture 1" descr="Wiki.png">
            <a:hlinkClick r:id="rId1"/>
          </p:cNvPr>
          <p:cNvPicPr/>
          <p:nvPr/>
        </p:nvPicPr>
        <p:blipFill>
          <a:blip r:embed="rId2"/>
          <a:stretch/>
        </p:blipFill>
        <p:spPr>
          <a:xfrm>
            <a:off x="0" y="0"/>
            <a:ext cx="1054116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pic>
        <p:nvPicPr>
          <p:cNvPr id="67" name="Picture 1" descr="NAESP.png">
            <a:hlinkClick r:id="rId1"/>
          </p:cNvPr>
          <p:cNvPicPr/>
          <p:nvPr/>
        </p:nvPicPr>
        <p:blipFill>
          <a:blip r:embed="rId2"/>
          <a:srcRect l="2355" t="0" r="3465" b="0"/>
          <a:stretch/>
        </p:blipFill>
        <p:spPr>
          <a:xfrm>
            <a:off x="0" y="0"/>
            <a:ext cx="914400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762120" y="838080"/>
            <a:ext cx="3047760" cy="2190960"/>
          </a:xfrm>
          <a:prstGeom prst="rect">
            <a:avLst/>
          </a:prstGeom>
          <a:ln w="0">
            <a:noFill/>
          </a:ln>
        </p:spPr>
      </p:pic>
      <p:pic>
        <p:nvPicPr>
          <p:cNvPr id="69" name="" descr=""/>
          <p:cNvPicPr/>
          <p:nvPr/>
        </p:nvPicPr>
        <p:blipFill>
          <a:blip r:embed="rId2"/>
          <a:stretch/>
        </p:blipFill>
        <p:spPr>
          <a:xfrm>
            <a:off x="5334120" y="838080"/>
            <a:ext cx="3047760" cy="2286000"/>
          </a:xfrm>
          <a:prstGeom prst="rect">
            <a:avLst/>
          </a:prstGeom>
          <a:ln w="0">
            <a:noFill/>
          </a:ln>
        </p:spPr>
      </p:pic>
      <p:pic>
        <p:nvPicPr>
          <p:cNvPr id="70" name="" descr=""/>
          <p:cNvPicPr/>
          <p:nvPr/>
        </p:nvPicPr>
        <p:blipFill>
          <a:blip r:embed="rId3"/>
          <a:stretch/>
        </p:blipFill>
        <p:spPr>
          <a:xfrm>
            <a:off x="2971800" y="4038480"/>
            <a:ext cx="3048120" cy="2438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8"/>
                    </p:tgtEl>
                  </p:cond>
                </p:stCondLst>
                <p:childTnLst>
                  <p:par>
                    <p:cTn id="3" fill="hold">
                      <p:stCondLst>
                        <p:cond evt="onClick">
                          <p:tgtEl>
                            <p:spTgt spid="6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9"/>
                    </p:tgtEl>
                  </p:cond>
                </p:stCondLst>
                <p:childTnLst>
                  <p:par>
                    <p:cTn id="8" fill="hold">
                      <p:stCondLst>
                        <p:cond evt="onClick">
                          <p:tgtEl>
                            <p:spTgt spid="69"/>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69"/>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70"/>
                    </p:tgtEl>
                  </p:cond>
                </p:stCondLst>
                <p:childTnLst>
                  <p:par>
                    <p:cTn id="13" fill="hold">
                      <p:stCondLst>
                        <p:cond evt="onClick">
                          <p:tgtEl>
                            <p:spTgt spid="70"/>
                          </p:tgtEl>
                        </p:cond>
                      </p:stCondLst>
                      <p:childTnLst>
                        <p:par>
                          <p:cTn id="14" fill="hold">
                            <p:stCondLst>
                              <p:cond delay="0"/>
                            </p:stCondLst>
                            <p:childTnLst>
                              <p:par>
                                <p:cTn id="15" nodeType="clickEffect" fill="hold" presetClass="mediacall" presetID="2">
                                  <p:stCondLst>
                                    <p:cond delay="0"/>
                                  </p:stCondLst>
                                  <p:childTnLst>
                                    <p:cmd type="call" cmd="togglePause">
                                      <p:cBhvr>
                                        <p:cTn id="16"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Picture 2" descr="myspace_logo2.jpg"/>
          <p:cNvPicPr/>
          <p:nvPr/>
        </p:nvPicPr>
        <p:blipFill>
          <a:blip r:embed="rId1"/>
          <a:stretch/>
        </p:blipFill>
        <p:spPr>
          <a:xfrm>
            <a:off x="533520" y="2286000"/>
            <a:ext cx="8127720" cy="6095880"/>
          </a:xfrm>
          <a:prstGeom prst="rect">
            <a:avLst/>
          </a:prstGeom>
          <a:ln w="0">
            <a:noFill/>
          </a:ln>
        </p:spPr>
      </p:pic>
      <p:pic>
        <p:nvPicPr>
          <p:cNvPr id="72" name="Picture 1" descr="logo_facebook.jpg"/>
          <p:cNvPicPr/>
          <p:nvPr/>
        </p:nvPicPr>
        <p:blipFill>
          <a:blip r:embed="rId2"/>
          <a:stretch/>
        </p:blipFill>
        <p:spPr>
          <a:xfrm>
            <a:off x="0" y="0"/>
            <a:ext cx="9144000" cy="343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Picture 1" descr="club_penguin_penguins.jpg"/>
          <p:cNvPicPr/>
          <p:nvPr/>
        </p:nvPicPr>
        <p:blipFill>
          <a:blip r:embed="rId1"/>
          <a:stretch/>
        </p:blipFill>
        <p:spPr>
          <a:xfrm>
            <a:off x="0" y="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Picture 1" descr="webkinz.jpg"/>
          <p:cNvPicPr/>
          <p:nvPr/>
        </p:nvPicPr>
        <p:blipFill>
          <a:blip r:embed="rId1"/>
          <a:stretch/>
        </p:blipFill>
        <p:spPr>
          <a:xfrm>
            <a:off x="0" y="990720"/>
            <a:ext cx="9144000" cy="533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Picture 2" descr="IBM"/>
          <p:cNvPicPr/>
          <p:nvPr/>
        </p:nvPicPr>
        <p:blipFill>
          <a:blip r:embed="rId1"/>
          <a:stretch/>
        </p:blipFill>
        <p:spPr>
          <a:xfrm>
            <a:off x="2365200" y="465120"/>
            <a:ext cx="4415040" cy="594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
          <p:cNvSpPr txBox="1"/>
          <p:nvPr/>
        </p:nvSpPr>
        <p:spPr>
          <a:xfrm>
            <a:off x="457200" y="-360"/>
            <a:ext cx="8229600" cy="6126120"/>
          </a:xfrm>
          <a:prstGeom prst="rect">
            <a:avLst/>
          </a:prstGeom>
          <a:noFill/>
          <a:ln w="0">
            <a:noFill/>
          </a:ln>
        </p:spPr>
        <p:txBody>
          <a:bodyPr anchor="ctr" anchorCtr="1">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78" name="Picture 3" descr="Our Digital Landscape">
            <a:hlinkClick r:id="rId1"/>
          </p:cNvPr>
          <p:cNvPicPr/>
          <p:nvPr/>
        </p:nvPicPr>
        <p:blipFill>
          <a:blip r:embed="rId2"/>
          <a:srcRect l="1332" t="1244" r="5868" b="1035"/>
          <a:stretch/>
        </p:blipFill>
        <p:spPr>
          <a:xfrm>
            <a:off x="2058840" y="919080"/>
            <a:ext cx="5026320" cy="5019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Picture 4" descr="YouTube.png"/>
          <p:cNvPicPr/>
          <p:nvPr/>
        </p:nvPicPr>
        <p:blipFill>
          <a:blip r:embed="rId1"/>
          <a:stretch/>
        </p:blipFill>
        <p:spPr>
          <a:xfrm>
            <a:off x="0" y="0"/>
            <a:ext cx="10104480" cy="68580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62120" y="514440"/>
            <a:ext cx="7543800" cy="56577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restart="whenNotActive" nodeType="interactiveSeq" fill="hold">
                <p:stCondLst>
                  <p:cond evt="onClick">
                    <p:tgtEl>
                      <p:spTgt spid="80"/>
                    </p:tgtEl>
                  </p:cond>
                </p:stCondLst>
                <p:childTnLst>
                  <p:par>
                    <p:cTn id="19" fill="hold">
                      <p:stCondLst>
                        <p:cond evt="onClick">
                          <p:tgtEl>
                            <p:spTgt spid="80"/>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53" name="Picture 4" descr="desktop"/>
          <p:cNvPicPr/>
          <p:nvPr/>
        </p:nvPicPr>
        <p:blipFill>
          <a:blip r:embed="rId1"/>
          <a:stretch/>
        </p:blipFill>
        <p:spPr>
          <a:xfrm>
            <a:off x="-304920" y="-914400"/>
            <a:ext cx="9753840" cy="780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55" name="Content Placeholder 3" descr="lenovo-thinkpad-x61-tablet-pc.jpg"/>
          <p:cNvPicPr/>
          <p:nvPr/>
        </p:nvPicPr>
        <p:blipFill>
          <a:blip r:embed="rId1"/>
          <a:stretch/>
        </p:blipFill>
        <p:spPr>
          <a:xfrm>
            <a:off x="0" y="-533520"/>
            <a:ext cx="9144000" cy="942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Picture 2" descr="82339986_ad45c6b742_b.jpg"/>
          <p:cNvPicPr/>
          <p:nvPr/>
        </p:nvPicPr>
        <p:blipFill>
          <a:blip r:embed="rId1"/>
          <a:stretch/>
        </p:blipFill>
        <p:spPr>
          <a:xfrm>
            <a:off x="-1138320" y="0"/>
            <a:ext cx="102823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58" name="Content Placeholder 3" descr="42914294_975aab3235_b.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Picture 3" descr="450204342_636c98538c_b.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Picture 4" descr="2070805989_10c4d22b4b_o.jpg"/>
          <p:cNvPicPr/>
          <p:nvPr/>
        </p:nvPicPr>
        <p:blipFill>
          <a:blip r:embed="rId1"/>
          <a:stretch/>
        </p:blipFill>
        <p:spPr>
          <a:xfrm>
            <a:off x="0" y="0"/>
            <a:ext cx="10439280" cy="6954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4" descr="camcorder"/>
          <p:cNvPicPr/>
          <p:nvPr/>
        </p:nvPicPr>
        <p:blipFill>
          <a:blip r:embed="rId1"/>
          <a:stretch/>
        </p:blipFill>
        <p:spPr>
          <a:xfrm>
            <a:off x="0" y="0"/>
            <a:ext cx="9753480" cy="69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12:58:09Z</dcterms:created>
  <dc:creator>CTLT ISU</dc:creator>
  <dc:description/>
  <dc:language>en-US</dc:language>
  <cp:lastModifiedBy>CTLT ISU</cp:lastModifiedBy>
  <dcterms:modified xsi:type="dcterms:W3CDTF">2009-02-24T16:03:29Z</dcterms:modified>
  <cp:revision>4</cp:revision>
  <dc:subject/>
  <dc:title>ACT 1</dc:title>
</cp:coreProperties>
</file>